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C626-26E8-4452-A986-6411FDE6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77E-9B5D-49E1-921D-23F468A6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DADA-6EC2-408E-B2E4-C1BED3729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7BE1-C2A3-43F1-8C6A-A7F34959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6242-FE44-4C53-BEE8-CEAA4A8C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F972-A7A7-481F-97AC-013F353F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487-6DFA-4EB4-BAE5-D7BB4B8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082-4F2D-4C87-9D4F-EC32E79B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8C06-6EFA-4F4A-8206-5B83ACD6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C2E0-1626-4855-AEB5-692E238E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D923-935A-44F2-9B12-2A9C968C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B71-A40E-4A54-AC1B-EE7BDFE5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Goudy Old Sty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1764D1-1672-4FBD-BBCA-901312C2291E}" type="datetime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4A356-7C88-404B-A405-819B203F6FC1}" type="slidenum">
              <a:rPr b="0" lang="en-US" sz="1200" spc="-1" strike="noStrike">
                <a:solidFill>
                  <a:srgbClr val="898989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SnWU29o2xwA" TargetMode="External"/><Relationship Id="rId3" Type="http://schemas.openxmlformats.org/officeDocument/2006/relationships/hyperlink" Target="http://www.youtube.com/watch?v=JfTa4B7wQ_8" TargetMode="External"/><Relationship Id="rId4" Type="http://schemas.openxmlformats.org/officeDocument/2006/relationships/hyperlink" Target="http://www.youtube.com/watch?v=wrEPJh14mcU" TargetMode="External"/><Relationship Id="rId5" Type="http://schemas.openxmlformats.org/officeDocument/2006/relationships/hyperlink" Target="http://www.youtube.com/watch?v=wrEPJh14mcU" TargetMode="External"/><Relationship Id="rId6" Type="http://schemas.openxmlformats.org/officeDocument/2006/relationships/hyperlink" Target="http://www.youtube.com/watch?v=KGvESpEeyr4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Poetr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Goudy Old Style"/>
              </a:rPr>
              <a:t>Introduction to Lit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Rhyme Scheme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rhyme scheme: a regular pattern of rhyming words that appear at the ends of lines in a poem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I wandered lonely as a cloud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That floats on high o’er vales and hills,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B)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What all at once I saw a crowd,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A host, of golden daffodils;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Beside the lake, beneath the trees,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C)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Fluttering and dancing in the breeze.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(C)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- William Wordsworth “I Wandered Lonely as a Cloud”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Figurative Language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igurative language: devices that give creative and unexpected comparisons and descriptions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Simile: a comparison using “like” or “as”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Her eyes are like diamond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Metaphor: a direct comparison of two thing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Robert is a tank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Personification: gives human characteristics to non-human thing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The wind whispered through the trees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magery: very descriptive language that creates detailed images in a reader’s mind.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 apparition of these faces in the crowd;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Petals on a wet, black bough.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-- Ezra Pound "In a Station of the Metro”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Symbol:  an object that represents something else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the color black- death, sadness, depression, etc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Different Types of Poetr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2"/>
              </a:rPr>
              <a:t>Traditional poetr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3"/>
              </a:rPr>
              <a:t>A Poetry Slam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4"/>
              </a:rPr>
              <a:t>A Poet Laurate</a:t>
            </a: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5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ff8119"/>
                </a:solidFill>
                <a:uFillTx/>
                <a:latin typeface="Goudy Old Style"/>
                <a:hlinkClick r:id="rId6"/>
              </a:rPr>
              <a:t>Famous Children's Poetry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audio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aking a poem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Types of Poetry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lyric poetry: expresses vivid thought and feeling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narrative poetry: tells a stor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ramatic poetry: uses techniques of drama, such as speaker and conflict, to tell a stor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Poetic Devices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usical devices: devices that give a poem a melodious quality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alliteration: repetition of initial consonant sounds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x: Terrible truths terrified Terrance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Alphabet Aerobics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Onomatopoeia:  a word that imitates the sound(s) it represents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ex: buzz, smack, wham, crash, sizzle 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735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onomoatopeia link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devices continued 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ssonance: repetition of a vowel sound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 ignorance is disguised within insult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so, all the 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ght-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 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 down by the 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Of my darling, my darling, my 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fe and my b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oudy Old Style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de.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-- Edgar Allan Poe, "Annabel Lee"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Consonance: the repetition of consonant sounds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 haggard ragged hog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Whose woods these are I think I know.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His house is in the village though;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He will not see me stopping her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o watch his woods fill up with snow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-- Robert Frost, "Stopping by Woods on a Snowy Evening"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Old Style"/>
              </a:rPr>
              <a:t>Meter</a:t>
            </a: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Meter: the rhythmical pattern of a poem, determined by the number and types of stresses or beats, in each line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wand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red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lon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ely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a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cloud.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most common is iambic pentameter (unstressed, stressed)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oudy Old Style"/>
              </a:rPr>
              <a:t>All TYPES of different meters</a:t>
            </a:r>
            <a:endParaRPr b="0" lang="en-US" sz="24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Repetition: the use of any element of language – a sound, word, phrase, clause, or sentence – more than once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I'm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nobody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! Who are </a:t>
            </a:r>
            <a:r>
              <a:rPr b="0" i="1" lang="en-US" sz="2800" spc="-1" strike="noStrike">
                <a:solidFill>
                  <a:srgbClr val="000000"/>
                </a:solidFill>
                <a:latin typeface="Goudy Old Style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Are you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nobody </a:t>
            </a:r>
            <a:r>
              <a:rPr b="0" i="1" lang="en-US" sz="2800" spc="-1" strike="noStrike">
                <a:solidFill>
                  <a:srgbClr val="000000"/>
                </a:solidFill>
                <a:latin typeface="Goudy Old Style"/>
              </a:rPr>
              <a:t>too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n there's a pair of us-don't tell!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They'd banish us you </a:t>
            </a:r>
            <a:r>
              <a:rPr b="1" lang="en-US" sz="2800" spc="-1" strike="noStrike">
                <a:solidFill>
                  <a:srgbClr val="000000"/>
                </a:solidFill>
                <a:latin typeface="Goudy Old Style"/>
              </a:rPr>
              <a:t>know</a:t>
            </a: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oudy Old Styl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Emily Dickinson “I'm nobody! Who are You?” 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udy Old Styl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rhyme: the repetition of sounds at the ends of words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Ex: 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Two roads diverged in a yellow </a:t>
            </a:r>
            <a:r>
              <a:rPr b="1" i="1" lang="en-US" sz="3200" spc="-1" strike="noStrike">
                <a:solidFill>
                  <a:srgbClr val="000000"/>
                </a:solidFill>
                <a:latin typeface="Goudy Old Style"/>
              </a:rPr>
              <a:t>wood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sorry I could not travel bo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be one traveler, long I </a:t>
            </a:r>
            <a:r>
              <a:rPr b="1" i="1" lang="en-US" sz="3200" spc="-1" strike="noStrike">
                <a:solidFill>
                  <a:srgbClr val="000000"/>
                </a:solidFill>
                <a:latin typeface="Goudy Old Style"/>
              </a:rPr>
              <a:t>sto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And looked down one as far as I </a:t>
            </a:r>
            <a:r>
              <a:rPr b="1" i="1" lang="en-US" sz="3200" spc="-1" strike="noStrike">
                <a:solidFill>
                  <a:srgbClr val="000000"/>
                </a:solidFill>
                <a:latin typeface="Goudy Old Style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oudy Old Style"/>
              </a:rPr>
              <a:t>- Robert Frost “The Road Not Taken”</a:t>
            </a: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Goudy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01:03:04Z</dcterms:created>
  <dc:creator>ndadmin</dc:creator>
  <dc:description/>
  <dc:language>en-US</dc:language>
  <cp:lastModifiedBy>Katherine Hausauer</cp:lastModifiedBy>
  <dcterms:modified xsi:type="dcterms:W3CDTF">2010-10-25T15:01:05Z</dcterms:modified>
  <cp:revision>8</cp:revision>
  <dc:subject/>
  <dc:title>Poetry</dc:title>
</cp:coreProperties>
</file>